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38DE-6A43-4D9F-8AB9-9FFAFB41B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93BA-FD07-40A7-B89D-D428A1C6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591F-2066-401B-97CF-F4724144D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67C8-9358-4965-8BA5-0FB9B03F4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3716-174E-426D-8754-B6364FBB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8D60-5EA9-456A-849A-861E47D2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E05C-450D-4DE7-BC38-81764249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51E2-94C7-460F-AC4D-2A4C006C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9171-D28A-416C-9108-71954E78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9C12-0F76-41C7-A153-20234682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E3AD-D310-401D-B1AE-B3DAB445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C965-DE1C-4B39-AFEA-40A2D143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C3CD-F8BA-4A63-B3EF-49CD6FF35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eb.mit.edu/invent/iow/nissen.html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62920" y="5334120"/>
            <a:ext cx="1828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7/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304920"/>
            <a:ext cx="43434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ampolin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172200" y="609480"/>
            <a:ext cx="2562120" cy="2362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62120" y="4191120"/>
            <a:ext cx="3504960" cy="1704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8088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3733920"/>
            <a:ext cx="4190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200400"/>
            <a:ext cx="40384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s MIT Progra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ampolin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uary 11,201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eb.mit.edu/invent/iow/nisse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Nissen"/>
          <p:cNvPicPr/>
          <p:nvPr/>
        </p:nvPicPr>
        <p:blipFill>
          <a:blip r:embed="rId2"/>
          <a:stretch/>
        </p:blipFill>
        <p:spPr>
          <a:xfrm>
            <a:off x="5638680" y="0"/>
            <a:ext cx="3505320" cy="5715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Nissen"/>
          <p:cNvPicPr/>
          <p:nvPr/>
        </p:nvPicPr>
        <p:blipFill>
          <a:blip r:embed="rId3"/>
          <a:srcRect l="28892" t="0" r="0" b="0"/>
          <a:stretch/>
        </p:blipFill>
        <p:spPr>
          <a:xfrm>
            <a:off x="0" y="0"/>
            <a:ext cx="4495680" cy="1949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447920" y="601992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love trampolin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vention: Trampo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games to play on the trampoline like space 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mpoline mean in spanish  bouncing ri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rge made safety n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mpolines are for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5880" y="4648320"/>
            <a:ext cx="2743200" cy="19778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George Ni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 was born in Blairstown, Iow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 was a gymnast when he was litt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age of 16 George finished high schoo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 sold more than 100 trampol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 also work at a ca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 currently lives in San Diego Cali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943600" y="5618160"/>
            <a:ext cx="2963880" cy="1239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8:19:20Z</dcterms:created>
  <dc:creator>install</dc:creator>
  <dc:description/>
  <dc:language>en-US</dc:language>
  <cp:lastModifiedBy>install</cp:lastModifiedBy>
  <dcterms:modified xsi:type="dcterms:W3CDTF">2011-01-14T17:12:10Z</dcterms:modified>
  <cp:revision>8</cp:revision>
  <dc:subject/>
  <dc:title>Slide 1</dc:title>
</cp:coreProperties>
</file>